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370E-E39F-45CC-B333-B88F90BD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C9F9-4BC5-4B25-BC4C-2CF2F65F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C0CC-308B-45ED-B50E-DA593B0B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5F09-8751-4A4D-898E-2E419F77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F0CC-1FAF-4C48-A523-A5F75511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6357-0294-404D-8A2E-506EEC27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24AC-2F76-44F3-ACA2-33954E6A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D55B-5BA3-4FFC-84C6-DF380F96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0B66-F196-46EC-B726-113DD98B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3A1D-2B87-4223-8AC5-DA5A331F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6378-7093-454C-9B98-0D80A30F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FCA1-3902-476E-8FCF-0FF15C64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2DD7-DE09-4A01-A20B-A69DD5AE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BBED-238C-496B-A1F4-00731B7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84C-57EA-448F-BB1E-86FC43A9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E06C-4D6D-4649-8E1A-F497EE6D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EF0B-49C4-4660-B94D-6FE72173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6AEA-1444-4FDA-B032-7C0CCDD7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75ED-FFB0-49B5-B2D8-358C4F1C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E5BE-3084-4AD1-981C-A27CA96A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B1A0-EF30-4733-9552-A7220AB6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BD4D-947A-4386-BCC8-378B1BEE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43A8-260F-4C12-B752-EE8D0870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DC0D-52FA-4641-9280-6A0DB1E5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6FD6-EAD3-4E6C-BC5D-A394A3AB6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D694-B526-48D7-B983-9F9B58259B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0360" y="182880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ffff"/>
                </a:solidFill>
                <a:latin typeface="Arial"/>
              </a:rPr>
              <a:t>Fussball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73920" y="4229280"/>
            <a:ext cx="27622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tziere mit dem Werkzeug Polygonfläche platzieren (3b-2) in einer Seitenfläche ein dem Dreieck eingeschriebenes rm. Sechse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dem Werkzeug Volumen abschneiden (Schnittrichtung nach vorne) kann nun eine Ecke weg geschnitt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chiebe das Ikosaeder so, dass beide Objekte einen gemeinsamen Mittelpunkt besit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 auf das Ikosaeder eine zentrische Streckung aus, so dass die Ecke A des Ikosaeders in den Mittelpunkt B einer Dodekaederseitenfläche fäl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chne ein Hilfsfünfeck wie in Punkt 5a) ein. Dieses Fünfeck liegt in einer Ebene parallel zu einer Seitenfläche des Dodekae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de nun eine zentrische Streckung auf das Ikosaeder so an, dass die beiden Fünfecke in einer Ebene zu liegen kom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6200" y="58770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Durchschnitt der beiden Polyeder ergibt ein Volumsmodell des gesuchten Fußb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719280"/>
            <a:ext cx="6487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8:06:59Z</dcterms:created>
  <dc:creator>Andreas</dc:creator>
  <dc:description/>
  <dc:language>en-US</dc:language>
  <cp:lastModifiedBy>Andreas</cp:lastModifiedBy>
  <dcterms:modified xsi:type="dcterms:W3CDTF">2004-11-04T14:54:38Z</dcterms:modified>
  <cp:revision>28</cp:revision>
  <dc:subject/>
  <dc:title>Pentagondodekae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