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C686-6EB5-46B7-BC24-C9A4AF0D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0519-7577-447F-979B-E818E85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647A-9940-49AB-9A8F-5DF32718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97CF-1588-40FB-AB5C-0468EE44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186-682C-418A-B190-8E0EBDBF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41F-6ED6-4D68-A836-346CBD01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ADA3-2F43-47D8-BF3D-3C637EBA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91C-7F1E-48A2-A34A-CF7E4508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42D7-B957-4675-B8A7-1BFBC82A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0DBA-76D2-4F2F-91F7-C089999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03E-02CE-4FF3-8E5F-2AE175A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D2EF-7F7E-448F-917F-91F990C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BF0-CC3A-4BDC-A2CD-3366394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766-4339-48B1-AE10-FAB08993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00D2-CA03-4BD6-829D-D2C351A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98B-4952-43C6-B937-EA7C2BEE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D88-70BB-440C-A586-66BBD7DC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3560-7006-40B8-844D-BCF2678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82B5-76C7-411A-BC8C-175E7A65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4C1B-0949-4DE2-B17C-DAC2232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B80F-E512-4FBA-80FF-A9C3D03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E8F7-5F24-4022-AD59-B2A53B7E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A1B9-6290-4140-9B9A-360EC24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8684-6B4B-4B26-B697-C23D385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6DE-9E41-40E2-9849-8F84A51D2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7E8D-13EF-480D-B955-B6465249A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360" y="182880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ffffff"/>
                </a:solidFill>
                <a:latin typeface="Arial"/>
              </a:rPr>
              <a:t>Pentagondodekaeder und</a:t>
            </a:r>
            <a:br>
              <a:rPr sz="4600"/>
            </a:br>
            <a:r>
              <a:rPr b="0" lang="de-DE" sz="4600" spc="-1" strike="noStrike">
                <a:solidFill>
                  <a:srgbClr val="ffffff"/>
                </a:solidFill>
                <a:latin typeface="Arial"/>
              </a:rPr>
              <a:t>Ikosaed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300" t="0" r="14175" b="0"/>
          <a:stretch/>
        </p:blipFill>
        <p:spPr>
          <a:xfrm>
            <a:off x="6084720" y="4221000"/>
            <a:ext cx="2808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12262" t="0" r="21781" b="0"/>
          <a:stretch/>
        </p:blipFill>
        <p:spPr>
          <a:xfrm>
            <a:off x="468360" y="692280"/>
            <a:ext cx="2519280" cy="2504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11310" t="0" r="20820" b="0"/>
          <a:stretch/>
        </p:blipFill>
        <p:spPr>
          <a:xfrm>
            <a:off x="3132000" y="692280"/>
            <a:ext cx="2592360" cy="250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3176" t="0" r="21659" b="0"/>
          <a:stretch/>
        </p:blipFill>
        <p:spPr>
          <a:xfrm>
            <a:off x="6084720" y="692280"/>
            <a:ext cx="2489400" cy="2504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14213" t="0" r="23572" b="0"/>
          <a:stretch/>
        </p:blipFill>
        <p:spPr>
          <a:xfrm>
            <a:off x="1547640" y="3429000"/>
            <a:ext cx="2376720" cy="250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15090" t="0" r="15174" b="0"/>
          <a:stretch/>
        </p:blipFill>
        <p:spPr>
          <a:xfrm>
            <a:off x="4788000" y="3141720"/>
            <a:ext cx="3384360" cy="3182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alität Dodekaeder – Ikosa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06:59Z</dcterms:created>
  <dc:creator>Andreas</dc:creator>
  <dc:description/>
  <dc:language>en-US</dc:language>
  <cp:lastModifiedBy>Andreas</cp:lastModifiedBy>
  <dcterms:modified xsi:type="dcterms:W3CDTF">2004-11-04T09:20:38Z</dcterms:modified>
  <cp:revision>18</cp:revision>
  <dc:subject/>
  <dc:title>Pentagondodekae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