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E058-B00F-43FB-8B9B-592814D7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6618-9CC4-4DD2-8EDB-1B56A2C5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69B8-C06B-4A33-BEED-B625F321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9781-89A5-4676-9DE1-545AB575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1E26-AE19-478B-89FE-7EA6A346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B852-A577-4B16-AB32-F0501614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09D2-ACE6-4D31-8157-58E12755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2FF8-3354-41F7-A4A9-E9B940BF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A330-9C5E-4FF9-BF48-1A2BFFEE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761C-8C54-437F-A9E3-D5B6D89D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FF2D-A38D-46DC-8DA5-A8EC77D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1F1B-891D-4361-8915-FE51203B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C59-CBD5-4713-AF16-919AB758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8325-874E-4732-A9E5-274B0F79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242F-443B-471F-88A7-D92B8564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E0B-9F61-4F3E-8553-7998ED2C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C666-8832-495B-BB8E-13A336EF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DCAD-603A-4772-BB48-D74010A3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D1D4-1A10-46EC-9878-7D89DCE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7696-8F81-4B1F-89A2-B405D2B5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2B90-7ADA-45C5-8599-14DB66C8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D43A-3086-432E-AD82-ED80AC8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0107-2C0D-4C4B-9345-D066FB3C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B5EB-59A7-42F7-A4CD-0D14902B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6428-6626-40B3-B920-99F0F7482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6033-639E-403B-A1D2-A3E17F5E0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0360" y="182880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ffff"/>
                </a:solidFill>
                <a:latin typeface="Arial"/>
              </a:rPr>
              <a:t>Pentagondodekaeder als Flächenmodel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n können wir alle Hilfskonstruktionen ausbl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 Drehen im Kopiermodus (Methode: Aktiver Winkel = 360°/5 = 72°) stellen wir vier weitere Fünfecke her (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cuDraw (&lt;T&gt;)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. Umfärben der Fünfeckseiten und Grafikgruppe bilden (6a-4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n erzeugen wir durch Kopieren und Spiegeln an einer 1. Hauptebene (xy-Ebene) eine zweite Dodekaederhälf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n erzeugen wir durch Kopieren und Spiegeln an einer 1. Hauptebene (xy-Ebene) eine zweite Dodekaederhälf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fertige Ergebni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nfeck in xy-Ebene konstruieren (3b-4) Methode: Mitte Ecke; Radius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942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656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 weitere Fünfecke in der xy-Ebene konstruieren; Methode: Über Kante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inweis: Orientierung bea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656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se beiden Fünfecke jeweils aufdrehen bis sie einander berühren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bei wird der Punkt A um die Gerade a (gemeinsame Kante) gedreht und beschreibt einen Kreis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 legen (z.B. mit dem Werkzeug ACS definieren (auf Element ausgerichtet)) ein Hilfskoordinatensystem in die Drehachse a und speichern dies als „Drehung 1“ ab 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xtras-Hilfskoordin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Hilfe dieses Hilfskoordinatensystems können wir den Mittelpunkt M des Drehkreises k leicht konstruieren (Schnittpunkt der Normalen n mit der Drehachs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chne den Kreis k (Methode: Mitte) durch den Punkt A (Mittelpunkt M) in der zu a normalen Ebene ein (dies ist die yz-Ebene des neuen Koordinatensystems – Taste &lt;E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eide k mit der yz-Ebene des Weltkoordinatensystems (Seitenfläche des Hilfskoordinatenwürfels). Verwende das Werkzeug Volumenelement /Fläche mit linearem Element schneiden (Schnittpunkte markie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rote Fünfeck wird nun um die Achse a gedreht, so dass der Punkt A in den Punkt S fällt. Wir verwenden das Werkzeug Drehung (8b-5) z.B. mit der Methode 3 Punk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8:06:59Z</dcterms:created>
  <dc:creator>Andreas</dc:creator>
  <dc:description/>
  <dc:language>en-US</dc:language>
  <cp:lastModifiedBy>Andreas</cp:lastModifiedBy>
  <dcterms:modified xsi:type="dcterms:W3CDTF">2004-11-04T09:11:47Z</dcterms:modified>
  <cp:revision>16</cp:revision>
  <dc:subject/>
  <dc:title>Pentagondodekae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